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730287"/>
        <c:axId val="99873729"/>
      </c:barChart>
      <c:catAx>
        <c:axId val="127302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873729"/>
        <c:crosses val="autoZero"/>
        <c:auto val="1"/>
        <c:lblAlgn val="ctr"/>
        <c:lblOffset val="100"/>
        <c:noMultiLvlLbl val="0"/>
      </c:catAx>
      <c:valAx>
        <c:axId val="99873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302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008-FA20-4F64-8041-4CB8F25B2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FE01-D00B-4262-B9A3-2ABF73BB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43BB-F7E1-4EB2-8DA8-4C0DB6853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9B19-E619-4E5B-B5A8-E309BFF60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7F0-7E49-4849-A43E-A51D9E48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0D34-808F-4B23-8B32-4CACDE22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9DD-D994-4C0F-BFAA-88C0F408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3BD4-608F-4ACB-BB59-370D861F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6753-932C-4FCC-8936-B2F8C637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ED7D-CE3A-45E9-9CAA-AB4B5EA7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4F6-3C1E-457C-8443-2DBE43B4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6D50-E3A0-4D9A-BF2D-4D727039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CD1D6-5873-4E10-A469-D87F71461E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