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149440"/>
        <c:axId val="85232609"/>
      </c:barChart>
      <c:catAx>
        <c:axId val="351494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32609"/>
        <c:crosses val="autoZero"/>
        <c:auto val="1"/>
        <c:lblAlgn val="ctr"/>
        <c:lblOffset val="100"/>
        <c:noMultiLvlLbl val="0"/>
      </c:catAx>
      <c:valAx>
        <c:axId val="852326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494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7BB3-D4EA-4D47-B37E-D17701F28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F281-3861-46DE-9BFA-1F42B231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33D3-CA7C-48A4-A45A-4B635BBF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BAA0-12C3-4F64-8DF1-200DBE1DF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5662-F304-43AC-9319-F95E5A70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DD48-1A97-4342-A8AF-E6FA4532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AC1E-6134-4F30-99E1-67CD5D5A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8B53-23B1-48CC-B2C3-44FE9D47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0235-513D-49A1-AC76-5B551F54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990B-1854-40A2-AE23-00B418D0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0EC1-1CA9-4EE8-A682-7EF793E7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E34D-3590-4289-84E2-AC932BAE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0829E-D6A9-4343-8B96-803AEFAF0A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