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62343"/>
        <c:axId val="69391230"/>
      </c:barChart>
      <c:catAx>
        <c:axId val="273623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91230"/>
        <c:crosses val="autoZero"/>
        <c:auto val="1"/>
        <c:lblAlgn val="ctr"/>
        <c:lblOffset val="100"/>
        <c:noMultiLvlLbl val="0"/>
      </c:catAx>
      <c:valAx>
        <c:axId val="69391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623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B1C-796E-45C9-90F5-5640A7B4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0B5-59BC-4EBA-99FB-01F7B681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4F2-EC9C-4D96-94B1-C6D4AB73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77D-6BF6-4EEC-AE21-926ADC0C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1A5-363A-4024-B6DB-BC620674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F8A-E15F-4804-ABCF-0A9820EB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768-BF0A-40B3-B0C8-456B2F60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341-CF03-4747-9856-5BB6F395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64D-A4C3-4B7D-84D7-A57D3D80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E94-20B7-4463-8712-E4A19B1E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D8B-1426-4AC4-B195-5D9E615E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2FA-CF34-414A-8173-B8D909F0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A80F-E10A-454C-9597-B3710512F2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