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24867"/>
        <c:axId val="76891387"/>
      </c:barChart>
      <c:catAx>
        <c:axId val="69024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91387"/>
        <c:crosses val="autoZero"/>
        <c:auto val="1"/>
        <c:lblAlgn val="ctr"/>
        <c:lblOffset val="100"/>
        <c:noMultiLvlLbl val="0"/>
      </c:catAx>
      <c:valAx>
        <c:axId val="76891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24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503-28FF-4E06-A47A-2F016525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0F0-54B9-4AB8-BFCC-8589C0BA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161-E91E-42A0-9A52-F288FF67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7E9-8E51-4880-801E-D25E7F4E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5DC-7160-4D1D-8219-FCED814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687-28DD-4913-9697-71FE4795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774-6579-4811-A983-7C5F56A7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1BD-DC29-4EFA-AF22-E88DEF9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7C9-778F-4731-82F6-994AECCB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954-25C7-415E-8496-1162649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581-B039-4433-B7F9-EA8A5AF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441-2EE4-4B6A-A482-D09FA87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625EA-CCE3-4E97-B1A7-349D9B5F6C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