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64425"/>
        <c:axId val="28646294"/>
      </c:barChart>
      <c:catAx>
        <c:axId val="73164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46294"/>
        <c:crosses val="autoZero"/>
        <c:auto val="1"/>
        <c:lblAlgn val="ctr"/>
        <c:lblOffset val="100"/>
        <c:noMultiLvlLbl val="0"/>
      </c:catAx>
      <c:valAx>
        <c:axId val="28646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64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9B2-A544-441E-934C-832B03A5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1C1-006E-4CA7-A9A1-8DD0399A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451-D161-4FCA-8D5A-297B343A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87C-DE79-425F-9723-FE50097E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68D-79BB-4829-ACA5-CF1895C0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518-A724-415F-94E8-DC4E99C3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E57-B6FD-4706-9860-7BED3501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5EC-0F75-4080-8260-E8979084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CC9-343C-40AB-9E99-F65FB771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474-E9B9-46ED-9156-A361A84B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E06-CE96-48CD-B0A8-9C839E8B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6D2-2657-48D1-9183-860CF188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34B14-9BDD-494C-BBCE-C9260F7EED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