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98806"/>
        <c:axId val="32738005"/>
      </c:barChart>
      <c:catAx>
        <c:axId val="42998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38005"/>
        <c:crosses val="autoZero"/>
        <c:auto val="1"/>
        <c:lblAlgn val="ctr"/>
        <c:lblOffset val="100"/>
        <c:noMultiLvlLbl val="0"/>
      </c:catAx>
      <c:valAx>
        <c:axId val="32738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8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5E0-DFB8-48D9-B46E-C094A386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92F-7A82-45EE-B155-1ABB246F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BB7-338D-4BB5-9E4A-7D50ADB0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5D2-E9FF-4DE1-8EDA-26228240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C5E-AE59-4E30-97BB-814F8515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E76-AADD-434E-A796-1CC73E16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028-7423-4648-8387-BDB80B9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89C-5C06-440C-A6C3-08EB61DA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82C-920D-49A2-95C4-2C46332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73A-6562-4074-B2A9-F86DAA4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4AE-EF3E-45FE-AA62-C9B0AA9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82A-14CD-4D24-A862-9D503F6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4BB0-A6ED-46FF-B72F-E7F3E849C1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