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0019018"/>
        <c:axId val="25917651"/>
      </c:barChart>
      <c:catAx>
        <c:axId val="1001901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917651"/>
        <c:crosses val="autoZero"/>
        <c:auto val="1"/>
        <c:lblAlgn val="ctr"/>
        <c:lblOffset val="100"/>
        <c:noMultiLvlLbl val="0"/>
      </c:catAx>
      <c:valAx>
        <c:axId val="2591765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01901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A8EBB-BE19-4B56-A712-60EEC64D2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4056D-C199-4415-83D0-4FC44A168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C06DE-BF13-4758-AE49-3E8E142AC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833A5-ECB6-4C90-B6EB-1B5D285AF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56FBB-5F4E-489F-A7D6-4C4F5F755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48C53-9F15-496D-9ACA-2E9453D8B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F20AF-9C00-4347-A847-6408FD09A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88449-5DD7-46A4-A9AA-72084EEAC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F601E-2D27-49C3-A583-98B76BC97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5F4DB-5A46-4332-BBC7-61C7652BB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5E61E-03E6-4C03-AB88-8EF75FD7F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E663B-61C9-4FD9-8EBB-3490AEABC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DA32A6-8844-4F2E-B8DC-D6AD9E9DEA6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