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89051"/>
        <c:axId val="56780583"/>
      </c:barChart>
      <c:catAx>
        <c:axId val="91989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80583"/>
        <c:crosses val="autoZero"/>
        <c:auto val="1"/>
        <c:lblAlgn val="ctr"/>
        <c:lblOffset val="100"/>
        <c:noMultiLvlLbl val="0"/>
      </c:catAx>
      <c:valAx>
        <c:axId val="56780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89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5379-01F1-4224-99F8-8D1DA14A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9BE-FDE2-48CB-9DF2-C12ACE1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F22-1CB3-44D1-A46C-BA304549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DB4-BBBD-4815-82C8-8F45EC0C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FA3-EDF6-4610-9BF7-570C7A53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BB18-F920-4E80-B743-F177D738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2538-8ED0-4A4B-B8F1-37862836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B85-C07E-41E1-8B76-C1675DAF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394-2A20-403F-93C4-C350EE34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A3A5-9C62-477E-91CA-DD21FA38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34C-6EE8-4E4D-A227-472C33B2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DBA5-FB43-40C2-BA5E-2F4FA08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9B9C8-9FA9-4423-8FCC-39DA6DB423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