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28863"/>
        <c:axId val="25667963"/>
      </c:barChart>
      <c:catAx>
        <c:axId val="15528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67963"/>
        <c:crosses val="autoZero"/>
        <c:auto val="1"/>
        <c:lblAlgn val="ctr"/>
        <c:lblOffset val="100"/>
        <c:noMultiLvlLbl val="0"/>
      </c:catAx>
      <c:valAx>
        <c:axId val="25667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28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B7D-56C3-438B-A7BB-8213F2CC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C73-FA4E-483B-B961-562AE8E3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7F9-476E-4715-A540-1951EFB2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98D-33D7-4B84-BF8B-F06C04E3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848A-D981-4395-8D8E-B556C786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E15-174E-48ED-B1AF-8E089681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DCB-C5CD-467D-B9C2-C0D03670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15A-0B07-42AC-9EC1-9932D310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5509-420F-4C67-9C33-FBE20FB8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A97-1951-43B1-877E-AA28DB70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A99-AA5E-4919-A8C7-8DA1B55A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2587-F9F7-410D-87C1-0F31DBAC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F1A6C-D6C0-438A-9AF8-63FA44B65B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