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07668"/>
        <c:axId val="8424651"/>
      </c:barChart>
      <c:catAx>
        <c:axId val="59807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651"/>
        <c:crosses val="autoZero"/>
        <c:auto val="1"/>
        <c:lblAlgn val="ctr"/>
        <c:lblOffset val="100"/>
        <c:noMultiLvlLbl val="0"/>
      </c:catAx>
      <c:valAx>
        <c:axId val="8424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07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D30-2266-443E-BC0C-A8405233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F18-8900-4304-A013-740D694E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1D1-123C-4AAC-88A0-ABEDDEA7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78F-511D-47F1-A056-CA704F6A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2B23-5AA0-4A45-9096-D1FC335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737-0F45-4DC6-ADC4-6864B71E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500-714C-4913-BB22-787D4F4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281-EE83-41B7-BF0E-CCC4A3FD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35F-C6F8-47F9-BFBD-5A8288F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D9F-9859-4EA5-914E-C6E78ECF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4FF-26D8-4E8C-846A-1D64A281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997-4376-48FE-A46B-F4DD1CB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3A42-3711-4DE0-BCC1-C0BCE5B9E5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