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42260"/>
        <c:axId val="88862194"/>
      </c:barChart>
      <c:catAx>
        <c:axId val="13142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62194"/>
        <c:crosses val="autoZero"/>
        <c:auto val="1"/>
        <c:lblAlgn val="ctr"/>
        <c:lblOffset val="100"/>
        <c:noMultiLvlLbl val="0"/>
      </c:catAx>
      <c:valAx>
        <c:axId val="88862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2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1DB-8F60-4223-A192-1A722ECB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708-F323-4E16-8594-83296A76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0C1-97BD-4351-8ADC-6358DCB8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E0C-7D82-4DE4-8CFC-F96F7D16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68A-1621-4340-BA00-3868654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340-8C2A-4BC3-99DA-4C993E16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000-ECEA-45C5-A554-EEE5F11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01F-0CFD-4BB2-8A2C-D2CA7FB7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C9B-0821-4D21-B359-EE5E509B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39C-D118-4E04-AB34-9BE8CF8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6A3-F2C8-4D38-872F-D88C7CE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C60-4A8D-4C10-9AC6-4D42817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24533-FD03-47EB-AD00-F95D1EDBE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