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78007"/>
        <c:axId val="97594784"/>
      </c:barChart>
      <c:catAx>
        <c:axId val="57378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94784"/>
        <c:crosses val="autoZero"/>
        <c:auto val="1"/>
        <c:lblAlgn val="ctr"/>
        <c:lblOffset val="100"/>
        <c:noMultiLvlLbl val="0"/>
      </c:catAx>
      <c:valAx>
        <c:axId val="97594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8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2F7-4E45-4932-8895-E27F085C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7F3-52B0-464D-8D3F-F33FF61B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703-D14A-46B5-9F9A-989B992A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A28-A495-4F8F-B0EB-98D36C9B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1184-EB1A-440B-98E2-95DC1EB9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E9B-131E-4BD8-86D3-06BA5741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C70-8FB5-43E7-B372-F36F937C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3C27-6DC8-47C5-AFCB-A3357F69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4B3-8E66-426B-80DC-EECA4DEA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664-9F79-4DB4-B6CD-C0D69545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591-AA07-4B1F-9620-5C9F0631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278-DA9B-4266-9247-13C292F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4A11E-A4EB-40F2-B038-A1EC1795D4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