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029641"/>
        <c:axId val="79434411"/>
      </c:barChart>
      <c:catAx>
        <c:axId val="170296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434411"/>
        <c:crosses val="autoZero"/>
        <c:auto val="1"/>
        <c:lblAlgn val="ctr"/>
        <c:lblOffset val="100"/>
        <c:noMultiLvlLbl val="0"/>
      </c:catAx>
      <c:valAx>
        <c:axId val="794344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0296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FD9C-BA37-4BC6-B44A-08B28B121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AFA9-1C81-490C-A735-0834193D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1916-CC19-44C3-94F4-7AF12D42B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1851-EB90-4AAA-82CE-05D689E66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7215-C932-4E4E-BF3D-D0566C2E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1A4A-5858-452D-B366-E0B52BC6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E2F1-1FA4-474D-B7E5-5B380E71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90A0-FC6C-40A4-AE14-6CF0D5FC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6289-2E03-4570-9A4B-E28F1921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ACE4-58DB-487B-A99D-43A8DB3B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708A-BDE2-4260-93E3-2005AA07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4C86-8A9C-444D-83D0-D9B5DFB1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3118BA-B065-459D-AA3C-9F2E302591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